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976560" y="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3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84088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976560" y="884088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4735F97-8635-49E9-9ABC-B453C5538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976560" y="884088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FA13740-9178-4AA3-B847-B3EA92A2C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84088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76560" y="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976560" y="884088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EF0B2D9-92DF-4ECC-A6B7-4DD65AEB8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884088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976560" y="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976560" y="884088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03E86BC-EBD3-45F2-8902-A4FCE9EA1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884088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976560" y="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976560" y="884088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D59EBD7-D475-4331-A88A-AEA099470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884088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976560" y="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976560" y="884088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0CBB2AA-2FA8-449D-87A7-ADB7F86A1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-360" y="884088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976560" y="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976560" y="884088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945F180-A019-42E6-995D-321440F1E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884088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976560" y="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976560" y="884088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28F4FD-4DFD-4410-B166-465AB10F8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884088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76560" y="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976560" y="884088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3275280-1BF3-4AA0-A14D-553863306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360" y="884088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976560" y="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976560" y="884088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A5443BE-433C-4977-A7E6-9E17E80AA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884088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76560" y="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976560" y="884088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7B92B22-DDB8-485A-94FC-5E8EE02C3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84088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976560" y="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6705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39920" y="4511880"/>
            <a:ext cx="6705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39920" y="45118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76120" y="45118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07200" y="236232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74480" y="236232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39920" y="45118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07200" y="45118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74480" y="45118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9920" y="23623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487160" y="54252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39920" y="45118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39920" y="23623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76120" y="45118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39920" y="4511880"/>
            <a:ext cx="6705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6705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39920" y="4511880"/>
            <a:ext cx="6705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39920" y="45118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76120" y="45118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07200" y="236232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874480" y="236232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39920" y="45118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07200" y="45118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874480" y="45118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87160" y="54252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39920" y="45118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76120" y="45118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39920" y="4511880"/>
            <a:ext cx="6705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39920" y="23623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266760"/>
            <a:ext cx="6848640" cy="2752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EPA’s Strength in Both GEOSS &amp; ESIP; </a:t>
            </a:r>
            <a:br>
              <a:rPr sz="4000"/>
            </a:b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Environmental Health Decisionmaking</a:t>
            </a: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20640" y="3003480"/>
            <a:ext cx="7832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uary 10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rge Gray, Ph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ant Admini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A Office of Research an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60160" y="250920"/>
            <a:ext cx="8102520" cy="119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600" spc="-1" strike="noStrike">
                <a:solidFill>
                  <a:srgbClr val="3333cc"/>
                </a:solidFill>
                <a:latin typeface="Arial"/>
              </a:rPr>
              <a:t>Outcome Performance Evaluation Framework for GEOSS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03280" y="1700280"/>
            <a:ext cx="6566040" cy="4570200"/>
          </a:xfrm>
          <a:prstGeom prst="rect">
            <a:avLst/>
          </a:prstGeom>
          <a:solidFill>
            <a:srgbClr val="b3db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1700280"/>
            <a:ext cx="274680" cy="4570200"/>
          </a:xfrm>
          <a:prstGeom prst="rect">
            <a:avLst/>
          </a:prstGeom>
          <a:solidFill>
            <a:srgbClr val="e6f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1700280"/>
            <a:ext cx="274680" cy="4570200"/>
          </a:xfrm>
          <a:prstGeom prst="rect">
            <a:avLst/>
          </a:prstGeom>
          <a:solidFill>
            <a:srgbClr val="f2f9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1700280"/>
            <a:ext cx="274680" cy="4570200"/>
          </a:xfrm>
          <a:prstGeom prst="rect">
            <a:avLst/>
          </a:prstGeom>
          <a:solidFill>
            <a:srgbClr val="c9e6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01480" y="1746360"/>
            <a:ext cx="11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062920" y="1700280"/>
            <a:ext cx="871560" cy="4570200"/>
          </a:xfrm>
          <a:prstGeom prst="rect">
            <a:avLst/>
          </a:prstGeom>
          <a:solidFill>
            <a:srgbClr val="a5d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28000" y="177480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028000" y="3284640"/>
            <a:ext cx="11160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3333cc"/>
                </a:solidFill>
                <a:latin typeface="Arial"/>
              </a:rPr>
              <a:t>The 9 Societal Benefit Are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28000" y="4365720"/>
            <a:ext cx="1116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3333cc"/>
                </a:solidFill>
                <a:latin typeface="Arial"/>
              </a:rPr>
              <a:t>Second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3333cc"/>
                </a:solidFill>
                <a:latin typeface="Arial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87280" y="3284640"/>
            <a:ext cx="289080" cy="1792080"/>
          </a:xfrm>
          <a:prstGeom prst="rightArrow">
            <a:avLst>
              <a:gd name="adj1" fmla="val 50000"/>
              <a:gd name="adj2" fmla="val 53745"/>
            </a:avLst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76360" y="3068640"/>
            <a:ext cx="1511280" cy="22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3333cc"/>
                </a:solidFill>
                <a:latin typeface="Arial"/>
              </a:rPr>
              <a:t>Level 1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3333cc"/>
                </a:solidFill>
                <a:latin typeface="Arial"/>
              </a:rPr>
              <a:t>Uptake of GEO standards, etc. and implementation of GEO recommend-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3284640"/>
            <a:ext cx="289080" cy="1792080"/>
          </a:xfrm>
          <a:prstGeom prst="rightArrow">
            <a:avLst>
              <a:gd name="adj1" fmla="val 50000"/>
              <a:gd name="adj2" fmla="val 53745"/>
            </a:avLst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3068640"/>
            <a:ext cx="143964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3333cc"/>
                </a:solidFill>
                <a:latin typeface="Arial"/>
              </a:rPr>
              <a:t>Level 2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3333cc"/>
                </a:solidFill>
                <a:latin typeface="Arial"/>
              </a:rPr>
              <a:t>Changes to information system inter-operability &amp; information access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00720" y="3284640"/>
            <a:ext cx="288720" cy="1792080"/>
          </a:xfrm>
          <a:prstGeom prst="rightArrow">
            <a:avLst>
              <a:gd name="adj1" fmla="val 50000"/>
              <a:gd name="adj2" fmla="val 53745"/>
            </a:avLst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3068640"/>
            <a:ext cx="115272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3333cc"/>
                </a:solidFill>
                <a:latin typeface="Arial"/>
              </a:rPr>
              <a:t>Level 3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3333cc"/>
                </a:solidFill>
                <a:latin typeface="Arial"/>
              </a:rPr>
              <a:t>Changes to decision support  (end user) products &amp;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72360" y="3068640"/>
            <a:ext cx="136836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3333cc"/>
                </a:solidFill>
                <a:latin typeface="Arial"/>
              </a:rPr>
              <a:t>Level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3333cc"/>
                </a:solidFill>
                <a:latin typeface="Arial"/>
              </a:rPr>
              <a:t>Responses by affected populations to improved decision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96360" y="3284640"/>
            <a:ext cx="288720" cy="1792080"/>
          </a:xfrm>
          <a:prstGeom prst="rightArrow">
            <a:avLst>
              <a:gd name="adj1" fmla="val 50000"/>
              <a:gd name="adj2" fmla="val 53745"/>
            </a:avLst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 rot="5400000">
            <a:off x="4966920" y="3824280"/>
            <a:ext cx="2521080" cy="289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Decision Making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24000" y="3573360"/>
            <a:ext cx="828000" cy="1152360"/>
            <a:chOff x="324000" y="3573360"/>
            <a:chExt cx="828000" cy="1152360"/>
          </a:xfrm>
        </p:grpSpPr>
        <p:sp>
          <p:nvSpPr>
            <p:cNvPr id="142" name=""/>
            <p:cNvSpPr txBox="1"/>
            <p:nvPr/>
          </p:nvSpPr>
          <p:spPr>
            <a:xfrm rot="5400000">
              <a:off x="-5400" y="3902760"/>
              <a:ext cx="768240" cy="10944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Inputs</a:t>
              </a:r>
              <a:endParaRPr b="0" lang="en-US" sz="800" spc="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 rot="5400000">
              <a:off x="133200" y="4066920"/>
              <a:ext cx="1152360" cy="1648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800" spc="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 rot="5400000">
              <a:off x="540000" y="4040640"/>
              <a:ext cx="1079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800" spc="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79280" y="2421000"/>
            <a:ext cx="8423280" cy="431640"/>
            <a:chOff x="179280" y="2421000"/>
            <a:chExt cx="8423280" cy="431640"/>
          </a:xfrm>
        </p:grpSpPr>
        <p:sp>
          <p:nvSpPr>
            <p:cNvPr id="146" name=""/>
            <p:cNvSpPr/>
            <p:nvPr/>
          </p:nvSpPr>
          <p:spPr>
            <a:xfrm flipH="1" flipV="1">
              <a:off x="178920" y="2492280"/>
              <a:ext cx="1656000" cy="216000"/>
            </a:xfrm>
            <a:custGeom>
              <a:avLst/>
              <a:gdLst>
                <a:gd name="textAreaLeft" fmla="*/ 640440 w 1656000"/>
                <a:gd name="textAreaRight" fmla="*/ 1369800 w 1656000"/>
                <a:gd name="textAreaTop" fmla="*/ 127080 h 216000"/>
                <a:gd name="textAreaBottom" fmla="*/ 1792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393"/>
                  </a:moveTo>
                  <a:lnTo>
                    <a:pt x="12659" y="16393"/>
                  </a:lnTo>
                  <a:lnTo>
                    <a:pt x="12659" y="8354"/>
                  </a:lnTo>
                  <a:lnTo>
                    <a:pt x="8925" y="8354"/>
                  </a:lnTo>
                  <a:lnTo>
                    <a:pt x="15263" y="0"/>
                  </a:lnTo>
                  <a:lnTo>
                    <a:pt x="21600" y="8354"/>
                  </a:lnTo>
                  <a:lnTo>
                    <a:pt x="17866" y="8354"/>
                  </a:lnTo>
                  <a:lnTo>
                    <a:pt x="1786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2160" y="2492280"/>
              <a:ext cx="7610400" cy="73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 rot="16200000">
              <a:off x="1933560" y="2611440"/>
              <a:ext cx="287280" cy="19512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360 h 195120"/>
                <a:gd name="textAreaBottom" fmla="*/ 195840 h 19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681" y="0"/>
                  </a:lnTo>
                  <a:lnTo>
                    <a:pt x="21600" y="10800"/>
                  </a:lnTo>
                  <a:lnTo>
                    <a:pt x="1068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1835280" y="2421000"/>
              <a:ext cx="583236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0">
                    <a:noFill/>
                  </a:ln>
                  <a:solidFill>
                    <a:srgbClr val="3333cc"/>
                  </a:solidFill>
                  <a:latin typeface="Arial"/>
                </a:rPr>
                <a:t>Learning &amp; Feedback</a:t>
              </a:r>
              <a:endParaRPr b="0" lang="en-US" sz="1200" spc="1" strike="noStrike">
                <a:ln w="0">
                  <a:noFill/>
                </a:ln>
                <a:solidFill>
                  <a:srgbClr val="3333cc"/>
                </a:solidFill>
                <a:latin typeface="Arial"/>
                <a:ea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 rot="16200000">
              <a:off x="3661920" y="2611080"/>
              <a:ext cx="287280" cy="19548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-360 h 195480"/>
                <a:gd name="textAreaBottom" fmla="*/ 195480 h 1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681" y="0"/>
                  </a:lnTo>
                  <a:lnTo>
                    <a:pt x="21600" y="10800"/>
                  </a:lnTo>
                  <a:lnTo>
                    <a:pt x="1068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 rot="16200000">
              <a:off x="5173200" y="2611080"/>
              <a:ext cx="287280" cy="19548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-360 h 195480"/>
                <a:gd name="textAreaBottom" fmla="*/ 195480 h 1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681" y="0"/>
                  </a:lnTo>
                  <a:lnTo>
                    <a:pt x="21600" y="10800"/>
                  </a:lnTo>
                  <a:lnTo>
                    <a:pt x="1068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 rot="16200000">
              <a:off x="6757920" y="2611440"/>
              <a:ext cx="287280" cy="19512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360 h 195120"/>
                <a:gd name="textAreaBottom" fmla="*/ 195840 h 19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681" y="0"/>
                  </a:lnTo>
                  <a:lnTo>
                    <a:pt x="21600" y="10800"/>
                  </a:lnTo>
                  <a:lnTo>
                    <a:pt x="1068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 rot="16200000">
              <a:off x="8271000" y="2611440"/>
              <a:ext cx="287280" cy="19512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360 h 195120"/>
                <a:gd name="textAreaBottom" fmla="*/ 195840 h 19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681" y="0"/>
                  </a:lnTo>
                  <a:lnTo>
                    <a:pt x="21600" y="10800"/>
                  </a:lnTo>
                  <a:lnTo>
                    <a:pt x="1068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39640" y="2637000"/>
            <a:ext cx="5472360" cy="3528720"/>
            <a:chOff x="539640" y="2637000"/>
            <a:chExt cx="5472360" cy="3528720"/>
          </a:xfrm>
        </p:grpSpPr>
        <p:sp>
          <p:nvSpPr>
            <p:cNvPr id="155" name=""/>
            <p:cNvSpPr/>
            <p:nvPr/>
          </p:nvSpPr>
          <p:spPr>
            <a:xfrm>
              <a:off x="539640" y="2997360"/>
              <a:ext cx="5472360" cy="3168360"/>
            </a:xfrm>
            <a:prstGeom prst="rect">
              <a:avLst/>
            </a:prstGeom>
            <a:noFill/>
            <a:ln w="381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32160" y="263700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33cc"/>
                  </a:solidFill>
                  <a:latin typeface="Arial"/>
                </a:rPr>
                <a:t>GEO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10920" y="5229000"/>
            <a:ext cx="5401080" cy="863640"/>
            <a:chOff x="610920" y="5229000"/>
            <a:chExt cx="5401080" cy="863640"/>
          </a:xfrm>
        </p:grpSpPr>
        <p:sp>
          <p:nvSpPr>
            <p:cNvPr id="158" name=""/>
            <p:cNvSpPr/>
            <p:nvPr/>
          </p:nvSpPr>
          <p:spPr>
            <a:xfrm>
              <a:off x="1843200" y="5229360"/>
              <a:ext cx="4168800" cy="483120"/>
            </a:xfrm>
            <a:custGeom>
              <a:avLst/>
              <a:gdLst>
                <a:gd name="textAreaLeft" fmla="*/ 916560 w 4168800"/>
                <a:gd name="textAreaRight" fmla="*/ 3252240 w 4168800"/>
                <a:gd name="textAreaTop" fmla="*/ 106200 h 483120"/>
                <a:gd name="textAreaBottom" fmla="*/ 376920 h 48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7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 rot="16200000">
              <a:off x="2400840" y="3438720"/>
              <a:ext cx="863640" cy="44434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-360 h 4443480"/>
                <a:gd name="textAreaBottom" fmla="*/ 4443480 h 444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12160" stAng="10800000" swAng="5400000"/>
                  <a:lnTo>
                    <a:pt x="21600" y="0"/>
                  </a:lnTo>
                  <a:lnTo>
                    <a:pt x="21600" y="0"/>
                  </a:lnTo>
                  <a:lnTo>
                    <a:pt x="21600" y="6079"/>
                  </a:lnTo>
                  <a:lnTo>
                    <a:pt x="21600" y="12158"/>
                  </a:lnTo>
                  <a:lnTo>
                    <a:pt x="21600" y="12158"/>
                  </a:lnTo>
                  <a:lnTo>
                    <a:pt x="12427" y="12158"/>
                  </a:lnTo>
                  <a:arcTo wR="269" hR="2" stAng="16200000" swAng="-5400000"/>
                  <a:lnTo>
                    <a:pt x="12158" y="21600"/>
                  </a:lnTo>
                  <a:close/>
                </a:path>
              </a:pathLst>
            </a:custGeom>
            <a:solidFill>
              <a:srgbClr val="f7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1280" y="5627160"/>
              <a:ext cx="1069920" cy="456840"/>
            </a:xfrm>
            <a:prstGeom prst="rect">
              <a:avLst/>
            </a:prstGeom>
            <a:solidFill>
              <a:srgbClr val="f7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3333cc"/>
                  </a:solidFill>
                  <a:latin typeface="Arial"/>
                </a:rPr>
                <a:t>G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3333cc"/>
                  </a:solidFill>
                  <a:latin typeface="Arial"/>
                </a:rPr>
                <a:t>Process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17120" y="5627160"/>
              <a:ext cx="779400" cy="456840"/>
            </a:xfrm>
            <a:prstGeom prst="rect">
              <a:avLst/>
            </a:prstGeom>
            <a:solidFill>
              <a:srgbClr val="f7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3333cc"/>
                  </a:solidFill>
                  <a:latin typeface="Arial"/>
                </a:rPr>
                <a:t>Pro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3333cc"/>
                  </a:solidFill>
                  <a:latin typeface="Arial"/>
                </a:rPr>
                <a:t>Outpu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81120" y="5694840"/>
              <a:ext cx="1568880" cy="274320"/>
            </a:xfrm>
            <a:prstGeom prst="rect">
              <a:avLst/>
            </a:prstGeom>
            <a:solidFill>
              <a:srgbClr val="f7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3333cc"/>
                  </a:solidFill>
                  <a:latin typeface="Arial"/>
                </a:rPr>
                <a:t>Process Outco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667240" y="5293440"/>
              <a:ext cx="2446920" cy="335160"/>
            </a:xfrm>
            <a:prstGeom prst="rect">
              <a:avLst/>
            </a:prstGeom>
            <a:solidFill>
              <a:srgbClr val="f7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837f2d"/>
                  </a:solidFill>
                  <a:latin typeface="Arial"/>
                </a:rPr>
                <a:t>GEO &amp; GEO Secretari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52200" y="291600"/>
            <a:ext cx="7404120" cy="107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Outcome Performance Indicators for GEOSS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31520" y="1752480"/>
            <a:ext cx="764532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Outcome Performance Indicators that were developed in 2007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a developed draft indicators on Soil Mois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EPA developed draft indicators on Air Quality (AIRNow – Interna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17360" y="1749600"/>
            <a:ext cx="7289640" cy="2806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Any Questions?</a:t>
            </a: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04920" y="990720"/>
            <a:ext cx="2057400" cy="121896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rth System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2895480"/>
            <a:ext cx="25146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rth Observation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tely-sen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 sit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1905120"/>
            <a:ext cx="1828800" cy="609480"/>
          </a:xfrm>
          <a:prstGeom prst="rect">
            <a:avLst/>
          </a:prstGeom>
          <a:solidFill>
            <a:srgbClr val="d3ea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4876920"/>
            <a:ext cx="3276720" cy="609480"/>
          </a:xfrm>
          <a:prstGeom prst="rect">
            <a:avLst/>
          </a:prstGeom>
          <a:solidFill>
            <a:srgbClr val="d3ea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-going feedback to optim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and reduce ga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447920"/>
            <a:ext cx="1447920" cy="761760"/>
          </a:xfrm>
          <a:prstGeom prst="ellipse">
            <a:avLst/>
          </a:prstGeom>
          <a:solidFill>
            <a:srgbClr val="c0ba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licy Deci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7280" y="2209680"/>
            <a:ext cx="1447920" cy="7621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i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67280" y="2971800"/>
            <a:ext cx="1447920" cy="762120"/>
          </a:xfrm>
          <a:prstGeom prst="ellipse">
            <a:avLst/>
          </a:prstGeom>
          <a:solidFill>
            <a:srgbClr val="aaf4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i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850880" y="190512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cie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25909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22096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81680" y="220968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72200" y="2209680"/>
            <a:ext cx="1295280" cy="2971800"/>
          </a:xfrm>
          <a:custGeom>
            <a:avLst/>
            <a:gdLst/>
            <a:ahLst/>
            <a:rect l="l" t="t" r="r" b="b"/>
            <a:pathLst>
              <a:path w="816" h="1824">
                <a:moveTo>
                  <a:pt x="816" y="0"/>
                </a:moveTo>
                <a:lnTo>
                  <a:pt x="816" y="1824"/>
                </a:lnTo>
                <a:lnTo>
                  <a:pt x="0" y="1824"/>
                </a:ln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4114800"/>
            <a:ext cx="1447560" cy="1066680"/>
          </a:xfrm>
          <a:custGeom>
            <a:avLst/>
            <a:gdLst/>
            <a:ahLst/>
            <a:rect l="l" t="t" r="r" b="b"/>
            <a:pathLst>
              <a:path w="912" h="672">
                <a:moveTo>
                  <a:pt x="912" y="672"/>
                </a:moveTo>
                <a:lnTo>
                  <a:pt x="0" y="672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447920" y="220932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1371600"/>
            <a:ext cx="990360" cy="2133720"/>
          </a:xfrm>
          <a:custGeom>
            <a:avLst/>
            <a:gdLst/>
            <a:ahLst/>
            <a:rect l="l" t="t" r="r" b="b"/>
            <a:pathLst>
              <a:path w="624" h="1344">
                <a:moveTo>
                  <a:pt x="0" y="0"/>
                </a:moveTo>
                <a:lnTo>
                  <a:pt x="624" y="0"/>
                </a:lnTo>
                <a:lnTo>
                  <a:pt x="624" y="1344"/>
                </a:lnTo>
                <a:lnTo>
                  <a:pt x="288" y="1344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2209680"/>
            <a:ext cx="3812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15320" y="106668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redi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160" y="350532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263520"/>
            <a:ext cx="8831520" cy="55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Linking Earth Observations to Societal Benefi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76160" y="377640"/>
            <a:ext cx="76708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Report on the Environment (ROE)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98720" y="1689120"/>
            <a:ext cx="3287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ation of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of tr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for strategic outlook and pri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079960" y="1866960"/>
            <a:ext cx="3005280" cy="39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50520" y="390240"/>
            <a:ext cx="6172200" cy="100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Definition of Indicator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3000" y="1676160"/>
            <a:ext cx="792468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PA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port on the Environ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 indicator is a numerical value derived from actual measurements of a pressure, state or ambient condition, exposure, or human health or ecological condition over a specified geographic domain, whose trends over time represent or draw attention to underlying trends in the condition of the environm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74280" y="317160"/>
            <a:ext cx="624852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Criteria for Indicators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ndicator is useful. It answers (or makes an important contribution to answering) a question in the RO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ndicator is objective. It is developed and presented in an accurate, clear, complete, and unbiased mann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ndicator is transparent and reproducible. The specific data used and the specific assumptions, analytic methods, and statistical procedures employed are clearly stat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underlying data are characterized by sound collection methodologies, data management systems to protect its integrity, and quality assurance procedu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are available to describe changes or trends and the latest available data are timel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ata are comparable across time and space, and representative of the target population. Trends depicted in this indicator accurately represent the underlying trends in the target population.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25400" y="304920"/>
            <a:ext cx="5816520" cy="838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Structure of ROE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390320"/>
            <a:ext cx="803916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d around 27 questions considered to be important to EPA’s 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 87 peer-reviewed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nds evaluated in five areas: air, water, land, human health, and eco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5120" y="291960"/>
            <a:ext cx="7442280" cy="78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Examples of Key Questions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2160" y="1320840"/>
            <a:ext cx="81658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trends in outdoor air quality and their effects on human health and the environ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trends in greenhouse gas emissions and concentr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trends in extent and condition of fresh surface waters and their effects on human health and the environ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trends in health status in the U.S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extent and distribution of the Nation’s ecological syst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28440" y="390240"/>
            <a:ext cx="72896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Challenges and Opportunities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076480" y="1841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g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or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of tr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c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63560" y="368280"/>
            <a:ext cx="5778720" cy="77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Status of ROE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09720" y="1434600"/>
            <a:ext cx="7353360" cy="42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version of ROE (Draf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ased Jun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version of R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ng revised to address SAB and public comments and include latest year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for release Spring of 2008 (Earth 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74120" y="5740560"/>
            <a:ext cx="43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epa.gov/ord/ro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13:52:10Z</dcterms:created>
  <dc:creator>TARPLEY</dc:creator>
  <dc:description/>
  <dc:language>en-US</dc:language>
  <cp:lastModifiedBy>ewashbur</cp:lastModifiedBy>
  <dcterms:modified xsi:type="dcterms:W3CDTF">2008-01-09T23:33:31Z</dcterms:modified>
  <cp:revision>619</cp:revision>
  <dc:subject/>
  <dc:title>PowerPoint Presentation</dc:title>
</cp:coreProperties>
</file>